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9.jpeg" ContentType="image/jpeg"/>
  <Override PartName="/ppt/media/image11.jpeg" ContentType="image/jpeg"/>
  <Override PartName="/ppt/media/image36.jpeg" ContentType="image/jpeg"/>
  <Override PartName="/ppt/media/image41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30.png" ContentType="image/png"/>
  <Override PartName="/ppt/media/image5.png" ContentType="image/png"/>
  <Override PartName="/ppt/media/image1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37.png" ContentType="image/png"/>
  <Override PartName="/ppt/media/image4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21D-A522-4A74-A892-75C531B7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202-8519-484D-B56B-799C4A3C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639-FD00-4FD8-BD6F-C324E858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536-340D-45F6-AEDD-1195B59E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E493-754E-4528-8462-5C20150D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CF74-829B-497B-BBA2-25CC53B3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D25B-9DC6-42AC-BD83-CCC096F9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65AE-C84E-4017-BBA6-98E0310F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ADF8-2E89-4CE2-8C0C-20D6314B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B569-1B37-42AD-8889-C5033D6E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2FAC-1A54-42DC-AB6A-4FBA9B5A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B55-B02E-4F3C-B670-1465916D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73BC-0591-49FE-AE33-47968C03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8119-7002-487A-B81A-215E2750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8948-17F6-46FE-92D2-42C0E4AC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BC5B-8530-4798-A7EA-80BCED6D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F7A4-5225-489D-95DF-AB906A70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8F6C-ED46-4350-AB1F-539348A7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3F44-38BA-41F5-B0B0-6A4C9691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BC4F-E49A-4F43-B4C5-9B91ACA8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E56F-B51C-40D7-B8FD-F036A192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5518-E984-4C13-85FC-CE74491E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3A3-93F0-4B17-9922-DFFB10E2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B424-A945-47C4-95E9-311DF736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AA9A-B769-45DE-899C-A53A3BBA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F276-433E-4F8A-AA58-00ED8806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30B9-BC63-4670-B144-2748BCE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6B764-3337-4A81-BC92-9535A56B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EAE23-00C9-41B1-A3B5-599025A5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8300-3E0B-4616-AD4B-A1CB9CE2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A1851-9DB6-4B36-AC65-A2C37722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A25F0-3D18-4E02-B281-90DAC76A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E47C7-8E1E-496C-A1FD-29D1DF91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CF9F-4B1D-47DB-848C-672A340F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05D4-410D-4324-9B96-2774AAA0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131C1-1078-44EE-91B9-27040976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CC815-4FF7-4608-AEE2-138BA93B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7FBC7-E245-4DEF-BCDB-98DEDEA6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FF0D7-0AA7-4A46-8018-E8000457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C242-041F-4687-8898-3106928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29A6C-B6C2-4DC3-92C2-036CEBE8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E6F7-8FC1-419A-A530-B8B4EA4E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559E4-7659-4F72-9643-8E50C1A7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43F-55AD-4D87-8E6A-87C86E73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B05-6822-4673-BD97-22DB1DED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118-07B1-459C-9695-13F1A7FD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836-675E-4EA2-8201-1A480FA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BEF-2CCA-4DE7-8E6B-7C32D5B1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ED48-31F8-417C-A76A-628E75181B4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975A-F6BA-424E-B330-E5BD0893DD0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19F4-2A5B-421D-8CAE-876B3E9C2A0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69D1-2E0F-48EB-BD95-D8679DACF86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1268280"/>
            <a:ext cx="7948800" cy="2791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5084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Лукина Ирина Михайловна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– кандидат юридических наук, доцент, заведующая кафедрой юриспруденции ФГБОУ ВО «ДОНАГРА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Схема 7" descr=""/>
          <p:cNvPicPr/>
          <p:nvPr/>
        </p:nvPicPr>
        <p:blipFill>
          <a:blip r:embed="rId1"/>
          <a:stretch/>
        </p:blipFill>
        <p:spPr>
          <a:xfrm>
            <a:off x="384120" y="201600"/>
            <a:ext cx="10167840" cy="1432080"/>
          </a:xfrm>
          <a:prstGeom prst="rect">
            <a:avLst/>
          </a:prstGeom>
          <a:ln w="0">
            <a:noFill/>
          </a:ln>
        </p:spPr>
      </p:pic>
      <p:sp>
        <p:nvSpPr>
          <p:cNvPr id="220" name="Скругленный прямоугольник 6"/>
          <p:cNvSpPr/>
          <p:nvPr/>
        </p:nvSpPr>
        <p:spPr>
          <a:xfrm>
            <a:off x="214200" y="1484280"/>
            <a:ext cx="4643640" cy="5373720"/>
          </a:xfrm>
          <a:custGeom>
            <a:avLst/>
            <a:gdLst>
              <a:gd name="textAreaLeft" fmla="*/ 226440 w 4643640"/>
              <a:gd name="textAreaRight" fmla="*/ 4417200 w 4643640"/>
              <a:gd name="textAreaTop" fmla="*/ 226440 h 5373720"/>
              <a:gd name="textAreaBottom" fmla="*/ 5147280 h 5373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Заработная плата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оплата труда работника) -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вознаграждение за труд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зависимости от квалификации работника, сложности, количества, качества и условий выполняемой работы, а также </a:t>
            </a:r>
            <a:r>
              <a:rPr b="1" lang="ru-RU" sz="1600" spc="-1" strike="noStrike">
                <a:solidFill>
                  <a:srgbClr val="049824"/>
                </a:solidFill>
                <a:latin typeface="Arial Black"/>
              </a:rPr>
              <a:t>компенсационные выплаты (доплаты и надбавки компенсационного характера</a:t>
            </a:r>
            <a:r>
              <a:rPr b="1" lang="ru-RU" sz="1600" spc="-1" strike="noStrike">
                <a:solidFill>
                  <a:srgbClr val="049824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том числе за работу в условиях, отклоняющихся от нормальных, работу в особых климатических условиях и на территориях, подвергшихся радиоактивному загрязнению, и иные выплаты компенсационного характера) и </a:t>
            </a:r>
            <a:r>
              <a:rPr b="1" lang="ru-RU" sz="1600" spc="-1" strike="noStrike">
                <a:solidFill>
                  <a:srgbClr val="546422"/>
                </a:solidFill>
                <a:latin typeface="Arial Black"/>
              </a:rPr>
              <a:t>стимулирующие выплаты (доплаты и надбавки стимулирующего характера, премии и иные поощрительные выплаты) (ч. 1 ст. 129 ТК РФ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Содержимое 8" descr=""/>
          <p:cNvPicPr/>
          <p:nvPr/>
        </p:nvPicPr>
        <p:blipFill>
          <a:blip r:embed="rId2"/>
          <a:stretch/>
        </p:blipFill>
        <p:spPr>
          <a:xfrm>
            <a:off x="1235160" y="1735200"/>
            <a:ext cx="8331120" cy="4770360"/>
          </a:xfrm>
          <a:prstGeom prst="rect">
            <a:avLst/>
          </a:prstGeom>
          <a:ln w="0">
            <a:noFill/>
          </a:ln>
        </p:spPr>
      </p:pic>
      <p:sp>
        <p:nvSpPr>
          <p:cNvPr id="222" name="Стрелка вправо 4"/>
          <p:cNvSpPr/>
          <p:nvPr/>
        </p:nvSpPr>
        <p:spPr>
          <a:xfrm>
            <a:off x="5000760" y="4071960"/>
            <a:ext cx="50004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dd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Содержимое 8" descr=""/>
          <p:cNvPicPr/>
          <p:nvPr/>
        </p:nvPicPr>
        <p:blipFill>
          <a:blip r:embed="rId1"/>
          <a:stretch/>
        </p:blipFill>
        <p:spPr>
          <a:xfrm>
            <a:off x="-1193760" y="1521000"/>
            <a:ext cx="8331120" cy="462744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7" descr=""/>
          <p:cNvPicPr/>
          <p:nvPr/>
        </p:nvPicPr>
        <p:blipFill>
          <a:blip r:embed="rId2"/>
          <a:stretch/>
        </p:blipFill>
        <p:spPr>
          <a:xfrm>
            <a:off x="863640" y="1806480"/>
            <a:ext cx="8331120" cy="4627800"/>
          </a:xfrm>
          <a:prstGeom prst="rect">
            <a:avLst/>
          </a:prstGeom>
          <a:ln w="0">
            <a:noFill/>
          </a:ln>
        </p:spPr>
      </p:pic>
      <p:sp>
        <p:nvSpPr>
          <p:cNvPr id="225" name="Скругленный прямоугольник 4"/>
          <p:cNvSpPr/>
          <p:nvPr/>
        </p:nvSpPr>
        <p:spPr>
          <a:xfrm>
            <a:off x="785880" y="214200"/>
            <a:ext cx="7643880" cy="135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Состав заработной платы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без стимулирующих выплат,</a:t>
            </a: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соглас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ч. 1 ст. 129 и ч. 2 ст. 135 ТК Р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Равно 5"/>
          <p:cNvSpPr/>
          <p:nvPr/>
        </p:nvSpPr>
        <p:spPr>
          <a:xfrm>
            <a:off x="4143240" y="3643200"/>
            <a:ext cx="714600" cy="1071720"/>
          </a:xfrm>
          <a:custGeom>
            <a:avLst/>
            <a:gdLst/>
            <a:ahLst/>
            <a:rect l="l" t="t" r="r" b="b"/>
            <a:pathLst>
              <a:path w="714375" h="1071562">
                <a:moveTo>
                  <a:pt x="94690" y="220742"/>
                </a:moveTo>
                <a:lnTo>
                  <a:pt x="619685" y="220742"/>
                </a:lnTo>
                <a:lnTo>
                  <a:pt x="619685" y="472773"/>
                </a:lnTo>
                <a:lnTo>
                  <a:pt x="94690" y="472773"/>
                </a:lnTo>
                <a:lnTo>
                  <a:pt x="94690" y="220742"/>
                </a:lnTo>
                <a:close/>
                <a:moveTo>
                  <a:pt x="94690" y="598789"/>
                </a:moveTo>
                <a:lnTo>
                  <a:pt x="619685" y="598789"/>
                </a:lnTo>
                <a:lnTo>
                  <a:pt x="619685" y="850820"/>
                </a:lnTo>
                <a:lnTo>
                  <a:pt x="94690" y="850820"/>
                </a:lnTo>
                <a:lnTo>
                  <a:pt x="94690" y="598789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8213760" y="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Arial"/>
              </a:rPr>
              <a:t>Слайд 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Содержимое 8" descr=""/>
          <p:cNvPicPr/>
          <p:nvPr/>
        </p:nvPicPr>
        <p:blipFill>
          <a:blip r:embed="rId1"/>
          <a:stretch/>
        </p:blipFill>
        <p:spPr>
          <a:xfrm>
            <a:off x="-1122480" y="1806480"/>
            <a:ext cx="8331480" cy="4627800"/>
          </a:xfrm>
          <a:prstGeom prst="rect">
            <a:avLst/>
          </a:prstGeom>
          <a:ln w="0">
            <a:noFill/>
          </a:ln>
        </p:spPr>
      </p:pic>
      <p:pic>
        <p:nvPicPr>
          <p:cNvPr id="229" name="Содержимое 7" descr=""/>
          <p:cNvPicPr/>
          <p:nvPr/>
        </p:nvPicPr>
        <p:blipFill>
          <a:blip r:embed="rId2"/>
          <a:stretch/>
        </p:blipFill>
        <p:spPr>
          <a:xfrm>
            <a:off x="863640" y="164952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230" name="Скругленный прямоугольник 3"/>
          <p:cNvSpPr/>
          <p:nvPr/>
        </p:nvSpPr>
        <p:spPr>
          <a:xfrm>
            <a:off x="1000080" y="214200"/>
            <a:ext cx="7000920" cy="14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 Black"/>
              </a:rPr>
              <a:t>Состав заработной пла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компенсационных и  стимулирующих выплат,</a:t>
            </a:r>
            <a:r>
              <a:rPr b="1" lang="ru-RU" sz="2000" spc="-1" strike="noStrike">
                <a:solidFill>
                  <a:srgbClr val="009dd9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 Black"/>
              </a:rPr>
              <a:t>согласно ч. 1 ст. 129 и ч. 2 ст. 135 ТК РФ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8213760" y="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Arial"/>
              </a:rPr>
              <a:t>Слайд 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т. 195.1 ТК РФ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валификация работник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уровень знаний, умений, профессиональных навыков и опыта работы работн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фессиональный стандарт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характеристика квалификации, необходимой работнику для осуществления определенного вида профессиональной деятельност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том числе выполнен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енн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удовой функ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C:\Users\Olga\Pictures\ТК РФ\Профстандарты\i8888.jpg"/>
          <p:cNvPicPr/>
          <p:nvPr/>
        </p:nvPicPr>
        <p:blipFill>
          <a:blip r:embed="rId1"/>
          <a:stretch/>
        </p:blipFill>
        <p:spPr>
          <a:xfrm>
            <a:off x="4572000" y="4368960"/>
            <a:ext cx="4103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т. 195.3 ТК РФ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рядок применения проф.стандар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ТК РФ или другими ФЗ, иными НПА РФ установлены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требования к квалификац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необходимой работнику для выполнения трудовой функции, проф.стандарты  в части указанных требований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язательны для примен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одателя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арактеристики квалификации, содержащиеся в профстандартах и обязательность применения которых не установлена, применяются в качестве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для определения требований к квалификации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 учетом особенносте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ыполняемых работниками трудовых функц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86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Письмо Министерства труда и социальной защиты РФ от 04 апреля 2016 г. №14-0/10/В-2253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48392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каких случаях применение проф. стандартов является обязательным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.2 ст. 57 ТК РФ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именование должностей, профессий, специальностей и квалификацион. требования к ним должны соответствовать наименованиям и требованиям, указанным в квалификац.справочник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рофессиональных стандартах, если в соответствии с ТК РФ или иными ФЗ с выполнением  работ по этим должностям, профессиям связано предоставление  компенсаций и льгот либо наличие огранич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. 195.3 ТК РФ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ебования к квалификации работников, содержащиеся в проф.стандартах, обязательны для работодателя в случаях, если они установлены ТК РФ, ФЗ, иными НПА Р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Разъяснения Минтруда по вопросам применения проф.стандарт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формация Минтруда и социальной защиты РФ от 10 февраля 2016 г. «О применении профессиональных стандартов в сфере труд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исьмо Министерства труда и социальной защиты РФ от 04 апреля 2016 г. №14-0/10/В-225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C:\Users\Olga\Pictures\ТК РФ\Профстандарты\i55.jpg"/>
          <p:cNvPicPr/>
          <p:nvPr/>
        </p:nvPicPr>
        <p:blipFill>
          <a:blip r:embed="rId1"/>
          <a:stretch/>
        </p:blipFill>
        <p:spPr>
          <a:xfrm>
            <a:off x="3203640" y="1550880"/>
            <a:ext cx="2200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73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Информация Минтруда и социальной защиты РФ от 10 февраля 2016 г. «О применении профессиональных стандартов в сфере труда»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арактеристики квалификации, обязательность применения которых не установлена  ТК РФ, ФЗ, НПА, применяются работодателям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качестве основы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определения требований  к квалифик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.стандарты применяются работодателям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 учетом особенностей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оизводства, труда и управл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.стандарты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вляются ориентирам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могут применяться в части наименования должностей, профессий, специальностей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 учетом особенност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обусловленных технологие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организацией производ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 данного работодател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2" descr="C:\Users\Olga\Pictures\ТК РФ\Профстандарты\iфл.jpg"/>
          <p:cNvPicPr/>
          <p:nvPr/>
        </p:nvPicPr>
        <p:blipFill>
          <a:blip r:embed="rId1"/>
          <a:stretch/>
        </p:blipFill>
        <p:spPr>
          <a:xfrm>
            <a:off x="6156360" y="5315040"/>
            <a:ext cx="2305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73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Информация Минтруда и социальной защиты РФ от 10 февраля 2016 г. «О применении профессиональных стандартов в сфере труда»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гласно ч.2 ст. 57 ТК РФ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именовани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в трудовых договор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олжностей, профессий или специальностей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квалификационные требования к ни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олжны соответствовать наименованиям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требованиям, указанны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квалификационных справочниках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ИБО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рофессиональных стандартах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если ТК РФ, иными ФЗ предусмотрено право работников на предоставление им компенсаций, льгот или каких-либо ограничений пр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е в таки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лжностя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о профессия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пециальностям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C:\Users\Olga\Pictures\ТК РФ\Профстандарты\labor.jpg"/>
          <p:cNvPicPr/>
          <p:nvPr/>
        </p:nvPicPr>
        <p:blipFill>
          <a:blip r:embed="rId1"/>
          <a:stretch/>
        </p:blipFill>
        <p:spPr>
          <a:xfrm>
            <a:off x="3635280" y="4869000"/>
            <a:ext cx="5329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86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Письмо Министерства труда и социальной защиты РФ от 04 апреля 2016 г. №14-0/10/В-2253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4000" y="148392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Могут ли обязанности работников, требования к стажу, образованию, измениться автоматически в связи с принятием проф.стандартов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Можно ли уволить работника при несоответствии проф. стандарта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язанности работников автоматически измениться не могут. Вступление  в силу проф.стандартов не является основанием для увольн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ение условий ТД может осуществляться в порядке ст. 74 ТК РФ, а также по соглашению сторо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одатель вправе  проводить аттестацию работни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Новые прецеденты  </a:t>
            </a: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Верховного Суда РФ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000" y="141264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Индексация заработной плат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Обзор судебной практики Верховного Суда РФ N 4 (2017) (утв. Президиумом Верховного Суда РФ 15 ноября 2017 г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особие при сокращении за 3-ий месяц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Определение СК по гражд. делам ВС РФ от 23.01.2017 г. №69-КГ 16-12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асширение круга лиц, имеющих правовой иммунитет от увольне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пределение СК по гражд. делам ВС РФ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 23.01.2017 г. №69-КГ 16-12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особие по уходу за ребенком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тало доплатой к заработк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(Письмо ФСС от 19.01.18 г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02-08-01/17-04-138 32л, Определение ВС РФ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т 05.08.2019 г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4" descr=""/>
          <p:cNvPicPr/>
          <p:nvPr/>
        </p:nvPicPr>
        <p:blipFill>
          <a:blip r:embed="rId1"/>
          <a:stretch/>
        </p:blipFill>
        <p:spPr>
          <a:xfrm>
            <a:off x="6227640" y="4005360"/>
            <a:ext cx="2592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86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Письмо Министерства труда и социальной защиты РФ от 04 апреля 2016 г. №14-0/10/В-2253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48392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олжны ли работники привести свою квалификацию с требованиями проф.стандартов? Кто несет расходы на обуч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. 196 ТК РФ необходимость подготовки для собственных нужд определяет работодатель. Подготовка работников осуществляется работодателе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условиях и в порядке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енным КД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Д, соглашения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2" descr="C:\Users\Olga\Pictures\ТК РФ\Профстандарты\дипломы.jpg"/>
          <p:cNvPicPr/>
          <p:nvPr/>
        </p:nvPicPr>
        <p:blipFill>
          <a:blip r:embed="rId1"/>
          <a:stretch/>
        </p:blipFill>
        <p:spPr>
          <a:xfrm>
            <a:off x="4284720" y="4076640"/>
            <a:ext cx="4248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86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Письмо Министерства труда и социальной защиты РФ от 04 апреля 2016 г. №14-0/10/В-2253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4000" y="148392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Если выполняемые  работником обязанности шире, чем содержащиеся в проф. стандартах, имеет ли он право на доплату за совмещение профессий?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совмещении профессий, увеличении объема работ, оплата труда производится с учетом ст. 151 ТК Р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2" descr="C:\Users\Olga\Pictures\ТК РФ\Профстандарты\i67676.jpg"/>
          <p:cNvPicPr/>
          <p:nvPr/>
        </p:nvPicPr>
        <p:blipFill>
          <a:blip r:embed="rId1"/>
          <a:stretch/>
        </p:blipFill>
        <p:spPr>
          <a:xfrm>
            <a:off x="1619280" y="4076640"/>
            <a:ext cx="6481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716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авительство Новгородской обла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ряжение от 28.12.2016 г. №386-рг «О внедрении системы  проф.стандартов на территории Новгородской област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. Утверд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лан мероприятий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 внедрению проф.стандарт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. Органам исполнительной власти приня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меры по внедрению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ф.стандарто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этапно до 01 января 2020 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.Рекомендовать органам местного самоуправления принять меры по реализации проф.стандарто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 отношении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. Рекомендовать работодателям и профсоюзам организовать работу п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недрению системы проф.стандартов в организация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2" descr="C:\Users\Olga\Pictures\Для презентаций\герб.jpg"/>
          <p:cNvPicPr/>
          <p:nvPr/>
        </p:nvPicPr>
        <p:blipFill>
          <a:blip r:embed="rId1"/>
          <a:stretch/>
        </p:blipFill>
        <p:spPr>
          <a:xfrm>
            <a:off x="3419640" y="0"/>
            <a:ext cx="1752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ФЗ «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О профессиональных союзах, их правах и гарантиях деятельности» 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 от 12.01.1996 г.  № 10-ФЗ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000" y="141264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атья 5 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Независимость профсоюз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Профсоюзы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зависимы в свое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рганов исполни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льной власти, органов местног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амоуправления, работодателей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х объединений (союзов, ассоциаций), политических партий и других общественных объединений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, им не подотчетны и не подконтроль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прещается вмешательство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рганов государственной власти, органов местного самоуправления и их должностных лиц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деятельность профсоюзов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оторое может повлечь за собой ограничение прав профсоюзов или воспрепятствовать законному осуществлению их устав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C:\Users\Olga\Pictures\Для презентаций\iCAWLE0R9.jpg"/>
          <p:cNvPicPr/>
          <p:nvPr/>
        </p:nvPicPr>
        <p:blipFill>
          <a:blip r:embed="rId1"/>
          <a:stretch/>
        </p:blipFill>
        <p:spPr>
          <a:xfrm>
            <a:off x="6372360" y="1413000"/>
            <a:ext cx="259236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Трудовой кодекс РФ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лава 58 «Защита трудовых прав  и законных интересов работников  профессиональными союзам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раво профсоюзов на осуществление контроля за соблюдением трудового законодательств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орядок учета мнения профсоюз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гарантии профсоюзным работни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2" descr="C:\Users\Olga\Pictures\Для презентаций\EnFSqAYG6X4.jpg"/>
          <p:cNvPicPr/>
          <p:nvPr/>
        </p:nvPicPr>
        <p:blipFill>
          <a:blip r:embed="rId1"/>
          <a:stretch/>
        </p:blipFill>
        <p:spPr>
          <a:xfrm>
            <a:off x="6732720" y="3789360"/>
            <a:ext cx="21430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Учет мнения при увольнении членов профсоюза ст. 373 ТК РФ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Объект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раво профсоюзов на контроль за соблюдением трудового законодательст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Объект 3" descr=""/>
          <p:cNvPicPr/>
          <p:nvPr/>
        </p:nvPicPr>
        <p:blipFill>
          <a:blip r:embed="rId1"/>
          <a:stretch/>
        </p:blipFill>
        <p:spPr>
          <a:xfrm>
            <a:off x="457200" y="1413000"/>
            <a:ext cx="82296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8598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арантии работникам, входящим в состав выборных коллегиальных органов профсоюзных организаций ст. 374 ТК РФ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4360" y="1557360"/>
            <a:ext cx="8013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вольнени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инициативе работодателя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п.2,3,5 части 1 ст. 81 ТК РФ)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пускаетс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только с предварительного соглас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шестоящего выборного профсоюзного орга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лены выборных органов, не освобожденные от основной работы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вобождаются от неё для участия в работе съездов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нференций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аткосрочн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фсоюзной учеб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C:\Users\Olga\Pictures\Для презентаций\iCA8ECUBB.jpg"/>
          <p:cNvPicPr/>
          <p:nvPr/>
        </p:nvPicPr>
        <p:blipFill>
          <a:blip r:embed="rId1"/>
          <a:stretch/>
        </p:blipFill>
        <p:spPr>
          <a:xfrm>
            <a:off x="5076720" y="4149720"/>
            <a:ext cx="35766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8598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арантии и компенсации лицам, участвующим в коллективных переговорах ст. 39 ТК РФ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4360" y="1557360"/>
            <a:ext cx="8013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вобождаются от основной работы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сохранением среднего заработк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сро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более 3 ме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могут быть подвергнуты дисциплинарному взысканию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переведены на другую работу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волен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 инициативе работодателя, без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варительног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гласия орга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олномочившего и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представитель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Рисунок 4" descr=""/>
          <p:cNvPicPr/>
          <p:nvPr/>
        </p:nvPicPr>
        <p:blipFill>
          <a:blip r:embed="rId1"/>
          <a:stretch/>
        </p:blipFill>
        <p:spPr>
          <a:xfrm>
            <a:off x="4967280" y="4149720"/>
            <a:ext cx="3790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Трудовой договор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Объект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остановления  </a:t>
            </a: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Конституционного Суда РФ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000" y="141264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использованные отпуска не «сгораю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. (Постановление  КС РФ от 25.10.2018 г. №38-П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абота в выходные и нерабочие праздничные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плачивается  с учетом компенсационных и стимулирующих  выплат, а не только одного оклада (Постановление КС РФ от 28.06.2018 г. №26-П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 увольнении работника по сокращению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работодатель обязан предлагать все вакансии, кроме вакансий по срочному ТД(Определение КС РФ  от 17.07.2018 г. №1894-О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одержание трудового догово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Объект 3" descr=""/>
          <p:cNvPicPr/>
          <p:nvPr/>
        </p:nvPicPr>
        <p:blipFill>
          <a:blip r:embed="rId1"/>
          <a:stretch/>
        </p:blipFill>
        <p:spPr>
          <a:xfrm>
            <a:off x="406440" y="1290600"/>
            <a:ext cx="83311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8000" y="549360"/>
            <a:ext cx="9036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Срок трудового договор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Ст. 58  ТК РФ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Д могут заключатьс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неопределенный ср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на определенный срок не более 5 лет (срочный ТД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в ТД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оговорен его сро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он считается заключенным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неопределенный с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ни одна из сторон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потребовала расторжения срочного ТД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язи с истечением срока 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ник продолжает работат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оговор считает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люченным н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определенный сро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Рисунок 3" descr=""/>
          <p:cNvPicPr/>
          <p:nvPr/>
        </p:nvPicPr>
        <p:blipFill>
          <a:blip r:embed="rId1"/>
          <a:stretch/>
        </p:blipFill>
        <p:spPr>
          <a:xfrm>
            <a:off x="5508720" y="3841920"/>
            <a:ext cx="33843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964720" cy="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рочный трудовой договор ст. 59 ТК РФ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очный ТД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может заключаться по соглашению сторо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 работодателей - субъектов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алого предпринимательств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с поступающими на работу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енсионерам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возраст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в организациях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райнего Север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если связано с переезд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для проведения неотложны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 по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отвращению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тастроф, авари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др. Ч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с лицами, избранными по конкурс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Рисунок 3" descr=""/>
          <p:cNvPicPr/>
          <p:nvPr/>
        </p:nvPicPr>
        <p:blipFill>
          <a:blip r:embed="rId1"/>
          <a:stretch/>
        </p:blipFill>
        <p:spPr>
          <a:xfrm>
            <a:off x="6443640" y="4076640"/>
            <a:ext cx="2087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бщие основания прекращения трудового договора ст. 77 ТК РФ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Объект 3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0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Увольнение по собственному желанию ст. 80 ТК РФ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Объект 3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84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Расторжение трудового договора по инициативе работодателя ст.ст. 71, 81 ТК РФ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8000" y="162828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 не прохождении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спытательного срока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ликвидац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организац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Сокращение числен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ли штата работник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есоответствие работника занимаемой должности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результатам аттестац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Смена собственника имущества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рганизац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(в отношении руководителя  и главбуха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еоднократного неисполн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ботником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без уважительных причин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трудовых обяз-тей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личии дисциплинарного взыскания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нократного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грубого нарушения трудовых обязанностей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(прогул, появление в нетрезвом виде, разглашение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айны, совершения хищения, нарушения работником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ребований охраны труда, если повлекло тяжкие последствия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вершение виновных действий как основание для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утраты доверия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едоставление неполных или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едостоверных сведений о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доходах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вершение аморального поступка  (педагоги, воспитатели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Рисунок 2" descr=""/>
          <p:cNvPicPr/>
          <p:nvPr/>
        </p:nvPicPr>
        <p:blipFill>
          <a:blip r:embed="rId1"/>
          <a:stretch/>
        </p:blipFill>
        <p:spPr>
          <a:xfrm>
            <a:off x="5653080" y="1844640"/>
            <a:ext cx="3414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Объект 3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8856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тпуск при работе по совместительству, гарантии и компенс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жегод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лачиваемые отпус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оставляются совместителям одновременно с отпуском по основной работе (ст. 286 ТК РФ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арантии и компенсаци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оставляются совместителям в полно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ъеме (ст. 287 ТК РФ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арантии только по основн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сту работ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*лицам, совмещающим работ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обучени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*лицам, работающим в района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айнего Севера и приравненны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ним местностя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Рисунок 2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36003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Объект 5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640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Изменения в законодательств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о работника обращаться в суд  по трудовым спорам по месту жительств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или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месту нахождения работодате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применении дисциплинарного взыскания к работнику необходимо дать ему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 дня на написание объяснительн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величение срока исковой да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невыплате заработной платы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ых выплат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о 1 года (ст. 392 ТК РФ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5" descr=""/>
          <p:cNvPicPr/>
          <p:nvPr/>
        </p:nvPicPr>
        <p:blipFill>
          <a:blip r:embed="rId1"/>
          <a:stretch/>
        </p:blipFill>
        <p:spPr>
          <a:xfrm>
            <a:off x="6743880" y="3789360"/>
            <a:ext cx="223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9036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зменения в законодательств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4920" y="90792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татья 262.2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К РФ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ботникам, имеющим трех и более детей в возрасте до двенадцати лет, ежегодный оплачиваемый отпуск предоставляется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 их желанию в удобное для них врем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Статья 185.1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К РФ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Гарантии работникам при прохождении диспансеризации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Работники при прохождении диспансеризации имеют право на освобождение от работы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Constantia"/>
              </a:rPr>
              <a:t>на один рабочий день один раз в три года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 сохрарением за ними места работы и среднего заработка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Работники, не достигшие возраста, дающего право на назначение пенсии по старости, в том числе досрочно,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в течение пяти лет до наступления такого возраста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и работники,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являющиеся получателями пенсии по старости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или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енсии за выслугу лет, при прохождении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диспансеризации, имеют право на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Constantia"/>
              </a:rPr>
              <a:t>два рабочих дня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Constantia"/>
              </a:rPr>
              <a:t>один раз в год 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 сохранением места работы и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реднего заработка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Рисунок 4" descr=""/>
          <p:cNvPicPr/>
          <p:nvPr/>
        </p:nvPicPr>
        <p:blipFill>
          <a:blip r:embed="rId1"/>
          <a:stretch/>
        </p:blipFill>
        <p:spPr>
          <a:xfrm>
            <a:off x="6948360" y="4221000"/>
            <a:ext cx="222264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9036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зменения в законодательств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836640"/>
            <a:ext cx="820872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34360" indent="-23436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. 144.1 УК РФ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обоснованный отказ в приеме на работу лица по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тивам достижения им предпенсионного возраст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а равно необоснованное увольнение с работы такого лица по тем же мотивам - нак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штрафом в размере до двухсот тысяч рубл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ли в размере заработной платы или иного дохода осужденного за период до восемнадцати месяцев либо обязательными работами на срок до трехсот шестидесяти час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. 7 ст. 360 ТК РФ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полнительное основание для проверки ГИТ при обращениях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 фактах уклонения от оформления трудового договора, ненадлежащего оформления трудового договора или заключения гражданско-правового договора, фактически регулирующего трудовые отношения между работником и работодател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06064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остановление Конституционного </a:t>
            </a: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Суда РФ от 11.04.2019 г. №17-П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11280" y="1483920"/>
            <a:ext cx="814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МРОТ не могут включаться   выплаты, связанные со сверхурочной работой, работой в ночное время, в выходные и нерабочие праздничные д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C:\Users\Olga\Videos\images.png"/>
          <p:cNvPicPr/>
          <p:nvPr/>
        </p:nvPicPr>
        <p:blipFill>
          <a:blip r:embed="rId1"/>
          <a:stretch/>
        </p:blipFill>
        <p:spPr>
          <a:xfrm>
            <a:off x="3635280" y="189000"/>
            <a:ext cx="1800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остановление Конституционного </a:t>
            </a: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Суда РФ от 07.12.2017 г. №38-П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000" y="1628640"/>
            <a:ext cx="8218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МРОТ не могут включаться  районные коэффициенты и процентные надбавки за работу в особых климатических условиях, они должны начисляться на заработок, определенный в соответствии с установленной системой оплаты тру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Рисунок 5" descr=""/>
          <p:cNvPicPr/>
          <p:nvPr/>
        </p:nvPicPr>
        <p:blipFill>
          <a:blip r:embed="rId1"/>
          <a:stretch/>
        </p:blipFill>
        <p:spPr>
          <a:xfrm>
            <a:off x="6227640" y="4292640"/>
            <a:ext cx="2581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плата труд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Объект 3" descr=""/>
          <p:cNvPicPr/>
          <p:nvPr/>
        </p:nvPicPr>
        <p:blipFill>
          <a:blip r:embed="rId1"/>
          <a:stretch/>
        </p:blipFill>
        <p:spPr>
          <a:xfrm>
            <a:off x="324000" y="1379520"/>
            <a:ext cx="6696000" cy="5472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2" descr=""/>
          <p:cNvPicPr/>
          <p:nvPr/>
        </p:nvPicPr>
        <p:blipFill>
          <a:blip r:embed="rId2"/>
          <a:stretch/>
        </p:blipFill>
        <p:spPr>
          <a:xfrm>
            <a:off x="6804000" y="4076640"/>
            <a:ext cx="234000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0T13:43:41Z</dcterms:created>
  <dc:creator>Olga</dc:creator>
  <dc:description/>
  <dc:language>en-US</dc:language>
  <cp:lastModifiedBy>admin</cp:lastModifiedBy>
  <cp:lastPrinted>2014-09-15T09:03:35Z</cp:lastPrinted>
  <dcterms:modified xsi:type="dcterms:W3CDTF">2023-11-30T13:33:02Z</dcterms:modified>
  <cp:revision>108</cp:revision>
  <dc:subject/>
  <dc:title>Практика применения норм трудового законодательства</dc:title>
</cp:coreProperties>
</file>